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F711-34CB-4D0C-9610-14E07FA1FD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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practice to get ready for your test…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day 7th July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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-practice to get ready for your test…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day 7th July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we need to work har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better levels when we move on s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high levels all the time 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ave treats if we get high lev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learn more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e need to work har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better levels when we move on st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high levels all the time 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have treats if we get high 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learn more th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se your times tabl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16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x8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19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x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x1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x28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x3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se your times tabl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x16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x8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x19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x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x1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x28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3x3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se taking awa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4-12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8-257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5-321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3-19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13-427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71-462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82-123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se taking awa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4-12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98-257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5-321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83-19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13-427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71-462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82-123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adding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72+198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54+2765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743+256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12+97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467+245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45+946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589+1634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4+9352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adding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72+198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54+2765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743+256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12+97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467+245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45+946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589+1634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74+9352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these number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quare these number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thes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.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quare thes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. 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. 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. 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4B2A-38BB-43BA-A15F-5A08AF64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B84F-C038-4B1D-9B6B-520E24DC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994-2F54-44E2-981D-C6A02E8D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868C-4DAB-42B2-B41F-4A6713F1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ABF-55B7-4CD3-8D58-00CF6B6F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CDC4-8330-4732-8B90-F1292F1A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74DF-C94B-4930-8103-A57E0AF3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4DF1-653D-4557-AF8A-A24FA013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B77E-B302-4D52-9A20-C7797A60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51AF-842C-4F66-A89D-56FF2258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E1A6-64FA-40FC-B1FF-F2C8E90E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611E-C7D6-40FC-847D-88EE6558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4900-11EA-4F7A-B421-03B5FFB8F3B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0e500"/>
                </a:solidFill>
                <a:uFillTx/>
                <a:latin typeface="Maiandra GD"/>
              </a:rPr>
              <a:t>Math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</a:t>
            </a:r>
            <a:r>
              <a:rPr b="0" lang="en-GB" sz="3200" spc="-1" strike="noStrike">
                <a:solidFill>
                  <a:srgbClr val="ffffff"/>
                </a:solidFill>
                <a:latin typeface="Maiandra GD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Maiandra GD"/>
              </a:rPr>
              <a:t>Re-practice to get ready for your test…</a:t>
            </a:r>
            <a:r>
              <a:rPr b="0" lang="en-GB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79280" y="0"/>
            <a:ext cx="15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Maiandra GD"/>
              </a:rPr>
              <a:t>Monday 7</a:t>
            </a:r>
            <a:r>
              <a:rPr b="1" lang="en-GB" sz="1200" spc="-1" strike="noStrike" baseline="30000">
                <a:solidFill>
                  <a:srgbClr val="ffffff"/>
                </a:solidFill>
                <a:latin typeface="Maiandra GD"/>
              </a:rPr>
              <a:t>th</a:t>
            </a:r>
            <a:r>
              <a:rPr b="1" lang="en-GB" sz="1200" spc="-1" strike="noStrike">
                <a:solidFill>
                  <a:srgbClr val="ffffff"/>
                </a:solidFill>
                <a:latin typeface="Maiandra GD"/>
              </a:rPr>
              <a:t> July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6" descr="MPj04118030000[1]"/>
          <p:cNvPicPr/>
          <p:nvPr/>
        </p:nvPicPr>
        <p:blipFill>
          <a:blip r:embed="rId1"/>
          <a:stretch/>
        </p:blipFill>
        <p:spPr>
          <a:xfrm>
            <a:off x="6802560" y="0"/>
            <a:ext cx="23414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Why we need to work hard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get better levels when we mo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 s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o get high levels all the time </a:t>
            </a:r>
            <a:r>
              <a:rPr b="0" lang="en-GB" sz="3200" spc="-1" strike="noStrike">
                <a:solidFill>
                  <a:srgbClr val="f0e5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cc"/>
                </a:solidFill>
                <a:latin typeface="Arial"/>
              </a:rPr>
              <a:t>To have treats if we get high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cc"/>
                </a:solidFill>
                <a:latin typeface="Arial"/>
              </a:rPr>
              <a:t>To learn more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e500"/>
                </a:solidFill>
                <a:latin typeface="Arial"/>
              </a:rPr>
              <a:t>Practise your times tables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x1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0e5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Arial"/>
              </a:rPr>
              <a:t>17x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x19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0e5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Arial"/>
              </a:rPr>
              <a:t>11x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x1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0e5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0e500"/>
                </a:solidFill>
                <a:latin typeface="Arial"/>
              </a:rPr>
              <a:t>45x2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3x3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17"/>
          <p:cNvGrpSpPr/>
          <p:nvPr/>
        </p:nvGrpSpPr>
        <p:grpSpPr>
          <a:xfrm>
            <a:off x="4211640" y="2205000"/>
            <a:ext cx="2808360" cy="2879640"/>
            <a:chOff x="4211640" y="2205000"/>
            <a:chExt cx="2808360" cy="2879640"/>
          </a:xfrm>
        </p:grpSpPr>
        <p:sp>
          <p:nvSpPr>
            <p:cNvPr id="57" name="Line 4"/>
            <p:cNvSpPr/>
            <p:nvPr/>
          </p:nvSpPr>
          <p:spPr>
            <a:xfrm>
              <a:off x="4932360" y="2205000"/>
              <a:ext cx="0" cy="28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5651640" y="2205000"/>
              <a:ext cx="0" cy="28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6"/>
            <p:cNvSpPr/>
            <p:nvPr/>
          </p:nvSpPr>
          <p:spPr>
            <a:xfrm>
              <a:off x="6372360" y="2205000"/>
              <a:ext cx="0" cy="28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4211640" y="2637000"/>
              <a:ext cx="2736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4211640" y="3429000"/>
              <a:ext cx="280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9"/>
            <p:cNvSpPr/>
            <p:nvPr/>
          </p:nvSpPr>
          <p:spPr>
            <a:xfrm>
              <a:off x="4284720" y="4365720"/>
              <a:ext cx="251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Text Box 10"/>
          <p:cNvSpPr/>
          <p:nvPr/>
        </p:nvSpPr>
        <p:spPr>
          <a:xfrm>
            <a:off x="4356000" y="20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Group 15"/>
          <p:cNvGrpSpPr/>
          <p:nvPr/>
        </p:nvGrpSpPr>
        <p:grpSpPr>
          <a:xfrm>
            <a:off x="5076720" y="2060640"/>
            <a:ext cx="1081080" cy="531000"/>
            <a:chOff x="5076720" y="2060640"/>
            <a:chExt cx="1081080" cy="531000"/>
          </a:xfrm>
        </p:grpSpPr>
        <p:sp>
          <p:nvSpPr>
            <p:cNvPr id="65" name="Text Box 11"/>
            <p:cNvSpPr/>
            <p:nvPr/>
          </p:nvSpPr>
          <p:spPr>
            <a:xfrm>
              <a:off x="5076720" y="2060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 Box 12"/>
            <p:cNvSpPr/>
            <p:nvPr/>
          </p:nvSpPr>
          <p:spPr>
            <a:xfrm>
              <a:off x="5797440" y="2131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Group 16"/>
          <p:cNvGrpSpPr/>
          <p:nvPr/>
        </p:nvGrpSpPr>
        <p:grpSpPr>
          <a:xfrm>
            <a:off x="4284720" y="2852640"/>
            <a:ext cx="863640" cy="1396080"/>
            <a:chOff x="4284720" y="2852640"/>
            <a:chExt cx="863640" cy="1396080"/>
          </a:xfrm>
        </p:grpSpPr>
        <p:sp>
          <p:nvSpPr>
            <p:cNvPr id="68" name="Text Box 13"/>
            <p:cNvSpPr/>
            <p:nvPr/>
          </p:nvSpPr>
          <p:spPr>
            <a:xfrm>
              <a:off x="4284720" y="2852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14"/>
            <p:cNvSpPr/>
            <p:nvPr/>
          </p:nvSpPr>
          <p:spPr>
            <a:xfrm>
              <a:off x="4500720" y="378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Group 22"/>
          <p:cNvGrpSpPr/>
          <p:nvPr/>
        </p:nvGrpSpPr>
        <p:grpSpPr>
          <a:xfrm>
            <a:off x="4932360" y="2852640"/>
            <a:ext cx="1368360" cy="1305000"/>
            <a:chOff x="4932360" y="2852640"/>
            <a:chExt cx="1368360" cy="1305000"/>
          </a:xfrm>
        </p:grpSpPr>
        <p:sp>
          <p:nvSpPr>
            <p:cNvPr id="71" name="Text Box 18"/>
            <p:cNvSpPr/>
            <p:nvPr/>
          </p:nvSpPr>
          <p:spPr>
            <a:xfrm>
              <a:off x="4932360" y="2852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5651640" y="292428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4932360" y="378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3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21"/>
            <p:cNvSpPr/>
            <p:nvPr/>
          </p:nvSpPr>
          <p:spPr>
            <a:xfrm>
              <a:off x="5724360" y="3789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ccff"/>
                </a:solidFill>
                <a:latin typeface="Arial"/>
              </a:rPr>
              <a:t>Practise taking away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4-1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998-257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55-321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783-19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13-427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671-46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82-123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8a4b"/>
                </a:solidFill>
                <a:latin typeface="Arial"/>
              </a:rPr>
              <a:t>Try adding…</a:t>
            </a: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72+198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1654+2765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743+25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512+97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8467+245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645+946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589+1634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468a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8a4b"/>
                </a:solidFill>
                <a:latin typeface="Arial"/>
              </a:rPr>
              <a:t>374+9352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e2e40"/>
                </a:solidFill>
                <a:latin typeface="Arial"/>
              </a:rPr>
              <a:t>Square these numbers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e2e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e2e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e2e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quare these numbe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8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9.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10.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1.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2e40"/>
                </a:solidFill>
                <a:latin typeface="Arial"/>
              </a:rPr>
              <a:t>12.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17:47:07Z</dcterms:created>
  <dc:creator>ESRA</dc:creator>
  <dc:description/>
  <dc:language>en-US</dc:language>
  <cp:lastModifiedBy>RomaK</cp:lastModifiedBy>
  <dcterms:modified xsi:type="dcterms:W3CDTF">2015-09-04T07:35:20Z</dcterms:modified>
  <cp:revision>11</cp:revision>
  <dc:subject/>
  <dc:title>Maths- Addition, subtraction, multiplication and division</dc:title>
</cp:coreProperties>
</file>